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9F5-1461-4232-8A67-7C6B0104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1A9-6F6E-44BE-8F20-0AF07DE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E24-41B6-49AB-AE7F-BBA6CB5A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C72-D260-4945-9F41-1056EAB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268-8F14-4CC7-9FB4-7113D69F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27F-0433-4D4C-A271-3012BC4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356-A9D8-45D0-9CCD-6E34DCF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7F12-B68D-42C7-824E-26A810A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C23-FE71-4BA1-99C7-9AD325B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D51-0662-405F-9809-BD56AE9F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F9CA-05D4-4E4F-9DA1-A6F2F3C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A23-D0CF-4BED-AA7F-01F5CAA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D6EF-7AAB-4D4D-988E-C0A0B56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EF7-CB6C-42EB-867B-D35D7C2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8D2C-CCC2-4064-B0AE-AE26E50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C05-F4C6-4F5D-999B-D9261342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EFF-4399-4448-BD0B-B98D184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8BAF-D518-44D1-A8CD-787CB538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68FD-8F66-43A9-B927-3B2489E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FB8D-9332-4D01-B73C-CF62C36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DAA3-62B8-4940-A269-47147110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88EC-B917-4F8B-A164-A61C7A7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16F-F61C-40CB-AE5A-11678E8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9E31-78D0-4467-A60C-898F8EF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283B-496D-46B4-BD09-5C7FD62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77EC-9AF3-4370-895B-16990CF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AA17-B9A2-4EE9-9C6B-0B72978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1EF4-40C3-4F62-B4CE-AD46C71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8B0B-95A1-471B-91F8-449C2823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2BE9-125F-4E99-AC5E-B118C052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435C-3B80-409B-B2CE-D80C866C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93BB-642A-41F7-A9FC-026F4A3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26BC-6226-4099-B405-021DF28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FDE-5602-40F6-AFE0-15585C9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A686-ED10-407F-8ED8-27924AE0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CF8D-2DCD-47C2-A854-2684C20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DE6B-9F61-4209-91D1-B45EAD5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CE0B-2E6F-4E6F-8BBC-C1A1107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7F77-16A6-4F71-944C-6B818F0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22C4-76A2-4043-8652-80C3BBC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1799-45C3-49FF-BC0C-7BE4B597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6651-8C7B-4560-A6A5-8652F23F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AA4B-22C2-41A8-8DD7-3F134D0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532B-CEA8-4E33-8514-B5BBF20B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854-F55A-4105-B049-7F6A94B7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8226-D8A8-4ABD-8EDC-DAF99FFD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6A07-0209-4A90-A08F-D24724D9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5967-7250-4E20-8BE8-7C2A0E8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49E2E-3185-4631-8311-237E1FB3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20A3-999A-44C3-9DB8-01357935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506C-4BC4-4E3C-93E8-0E3683A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6525-932B-4936-AD62-D77F41A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D0DB-A503-4B83-8110-3BF24A9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FFF4-4BED-46A3-8541-5048A31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0490-0D17-417F-8969-02E382D6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7E3-38A8-4D1D-930F-D845D85A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6C0B-6D26-4FCF-B847-3E6A4A5D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4C57-E09B-4F47-B3E6-396D8EDB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7956-B68D-46A2-A23A-DF1CE12A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1EFE-42F6-45E5-80B6-661369EF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4C83-77AA-42FD-980D-3E67DF5F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66B63-1EE8-4CAE-A1A9-2F7FF8A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ADC0-65A0-4918-9C9C-42565EC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BD2C-30D0-4235-B65C-BB92F93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157A-8A6E-4740-88C8-DFA07FA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94DE-2F6B-48F0-A648-0D6D83C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3FA-A85E-4F5A-BCD9-6AC17BE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3F15-6C4D-4A87-A6AB-185F4878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2FBD-EE15-4C99-9171-17A1B43F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6477-8C6D-4DB8-A395-613F3736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14B-0CC8-4567-BCF7-5E90DC6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0F5-0F86-4EB5-9E8B-819C733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FD4-5343-4E48-8DA9-C5DF85B8670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6579-F289-439E-9701-3FE0D28F8DC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F5D0-0875-410D-9A98-89FF1C70635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854-62FC-4931-8672-57522B202A0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701A-350F-41B3-B337-727E7860828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B549-A9B9-4ACE-BF7A-4524D4D17C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4CE4-A5D1-45AD-8F03-454E3A26854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9E3-F76D-4C70-86EB-1379B563AF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B45-D70D-4710-BE45-0505539780E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18DC-C13F-4854-BC8D-E3F77BC324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0F9-9273-483A-8774-0213D13F0C7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7C9-2C34-4EBE-8B7B-88EDBDFDAC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manuel.dantas@previdencia.gov.br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922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REAJUSTAMENTO 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BENEFÍCI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95160" y="2707920"/>
            <a:ext cx="9722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 reajuste dos benefícios, em 2017, foi editado pela Portaria nº 08, de 13 de janeiro de 201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23880" y="1267920"/>
            <a:ext cx="979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Índic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reajustament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6,5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ín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937,00, reajuste de 6,4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áx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5.531,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0440" y="765000"/>
            <a:ext cx="986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FATOR DE REAJUSTE DOS BENEFÍCIOS CONCEDIDOS DE ACORDO COM AS RESPECTIVAS DATAS DE INÍCIO, APLICÁVEL A PARTIR DE JANEI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Imagem 2" descr=""/>
          <p:cNvPicPr/>
          <p:nvPr/>
        </p:nvPicPr>
        <p:blipFill>
          <a:blip r:embed="rId1"/>
          <a:stretch/>
        </p:blipFill>
        <p:spPr>
          <a:xfrm>
            <a:off x="407880" y="1484280"/>
            <a:ext cx="1000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ângulo 4"/>
          <p:cNvSpPr/>
          <p:nvPr/>
        </p:nvSpPr>
        <p:spPr>
          <a:xfrm>
            <a:off x="1631880" y="907920"/>
            <a:ext cx="8640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ABELA DE CONTRIBUIÇÃO DOS SEGURADOS EMPREGADO, EMPREGADO DOMÉSTICO E TRABALHADOR AVULSO, PARA PAGAMENTO DE REMUNERAÇÃO A PARTIR DE 1º DE JANEIR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m 3" descr=""/>
          <p:cNvPicPr/>
          <p:nvPr/>
        </p:nvPicPr>
        <p:blipFill>
          <a:blip r:embed="rId1"/>
          <a:stretch/>
        </p:blipFill>
        <p:spPr>
          <a:xfrm>
            <a:off x="407880" y="2565360"/>
            <a:ext cx="10009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7520" y="1773360"/>
            <a:ext cx="10728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A partir de 1º de janeiro de 2017, não terão valores inferiores a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R$ 937,00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, os benefício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GP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nefícios Assistenci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cargos Previdenciários da União - EP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558440" y="907920"/>
            <a:ext cx="89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eletiv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o auxílio-reclusão e salário-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salário de contribuição igual ou inferior a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1.292,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otas do salário 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Para o segurado com remuneração mensal não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44,09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Para o segurado com remuneração mensal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 e igual ou inferior 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1.292,43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31,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92240" y="26028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uito obrigad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manuel de Araújo Da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tor do Regime Geral de Previdência Social/SPPS/M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t-BR" sz="32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emanuel.dantas@previdencia.gov.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ne: (61) 2021-5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2-14T13:17:09Z</dcterms:modified>
  <cp:revision>352</cp:revision>
  <dc:subject/>
  <dc:title>Demografia</dc:title>
</cp:coreProperties>
</file>